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C487E-5AC6-48E6-BADE-9BD26246351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00E17-AEC4-47F0-8B2D-CF11633B2E8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9C0FE-4FF4-4039-8104-76103769C3C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1BFD3-63F2-4AD0-B052-F93FF6A9C57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CBDF8-7FB8-4CF3-821E-8925A8C3206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128D0-5924-43CF-8EB1-DD80E2271C2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03129-7F2A-4005-BB88-D9AE22A03DB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1B1BA-135B-46A1-A56B-4540FBFD7BF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286B7-7F14-452E-B20E-E8DF378C70F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72CBA-F3E7-4B0E-A209-32975A7B2B2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66F43-94EC-4526-B757-EEBFE019554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1EB8-91CE-45A3-8156-6CC392F70A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3125-4A9D-47CF-A7E9-CEC8BD57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28AB5-50CE-4AA4-9626-BB1D4F77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DD17D-F467-4ECB-84B7-305203D217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F6A85-5881-4134-8309-8E18BBFA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8AADF-61A1-45B6-A47D-92B09989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2D410-CC38-435B-88AF-D4BAC12F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942AE-65F8-417A-B611-91239DD6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E4B5-6477-41F4-8F3F-955C5C2A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4ED3-6935-45EC-A381-608EE235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05B1-2FE9-4B05-B53C-EA6D48A8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8C663-CD9B-4D13-B739-6296E8D8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E7D843-9279-45E6-BDDA-55E15074074D}" type="slidenum"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S CAPAS DE LA GEO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capas de la geo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6116760" cy="4512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7736040" y="1413000"/>
            <a:ext cx="1228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a corte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7593120" y="2565360"/>
            <a:ext cx="1299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ma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7308720" y="4365720"/>
            <a:ext cx="1371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núcle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3708360" y="5950080"/>
            <a:ext cx="28083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5000b"/>
                </a:solidFill>
                <a:latin typeface="Arial"/>
              </a:rPr>
              <a:t>Pulsa sobre cada nombre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19 Conector recto"/>
          <p:cNvSpPr/>
          <p:nvPr/>
        </p:nvSpPr>
        <p:spPr>
          <a:xfrm>
            <a:off x="6872400" y="154476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22 Conector recto"/>
          <p:cNvSpPr/>
          <p:nvPr/>
        </p:nvSpPr>
        <p:spPr>
          <a:xfrm>
            <a:off x="7448400" y="1616040"/>
            <a:ext cx="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23 Conector recto"/>
          <p:cNvSpPr/>
          <p:nvPr/>
        </p:nvSpPr>
        <p:spPr>
          <a:xfrm>
            <a:off x="6872400" y="1616040"/>
            <a:ext cx="57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25 Conector recto"/>
          <p:cNvSpPr/>
          <p:nvPr/>
        </p:nvSpPr>
        <p:spPr>
          <a:xfrm>
            <a:off x="6512040" y="3632040"/>
            <a:ext cx="93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33 Conector recto"/>
          <p:cNvSpPr/>
          <p:nvPr/>
        </p:nvSpPr>
        <p:spPr>
          <a:xfrm>
            <a:off x="6512040" y="370368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35 Conector recto"/>
          <p:cNvSpPr/>
          <p:nvPr/>
        </p:nvSpPr>
        <p:spPr>
          <a:xfrm>
            <a:off x="6224760" y="5432400"/>
            <a:ext cx="10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37 Conector recto"/>
          <p:cNvSpPr/>
          <p:nvPr/>
        </p:nvSpPr>
        <p:spPr>
          <a:xfrm>
            <a:off x="7304040" y="3703680"/>
            <a:ext cx="0" cy="172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capas de la geo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1428840" cy="442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3060720" y="3708360"/>
            <a:ext cx="5759280" cy="2519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1"/>
          <p:cNvSpPr/>
          <p:nvPr/>
        </p:nvSpPr>
        <p:spPr>
          <a:xfrm>
            <a:off x="3800520" y="907920"/>
            <a:ext cx="50925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capa más exter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muy delgada en comparación co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anto y el núcle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á formado por rocas sólidas y rígi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ivide 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971640" y="692280"/>
            <a:ext cx="43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corte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119640" y="2708280"/>
            <a:ext cx="3024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rteza continent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se localiza en los continentes y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plataformas continenta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879640" y="2808360"/>
            <a:ext cx="28796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rteza oceán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se localiza en los fondos oceánicos. Es más delgada y densa que la contin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1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31 Conector recto"/>
          <p:cNvSpPr/>
          <p:nvPr/>
        </p:nvSpPr>
        <p:spPr>
          <a:xfrm>
            <a:off x="4067280" y="3860640"/>
            <a:ext cx="0" cy="14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33 Conector recto"/>
          <p:cNvSpPr/>
          <p:nvPr/>
        </p:nvSpPr>
        <p:spPr>
          <a:xfrm>
            <a:off x="6300720" y="3573360"/>
            <a:ext cx="0" cy="14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45 Grupo"/>
          <p:cNvGrpSpPr/>
          <p:nvPr/>
        </p:nvGrpSpPr>
        <p:grpSpPr>
          <a:xfrm>
            <a:off x="395280" y="1484280"/>
            <a:ext cx="2664000" cy="4753080"/>
            <a:chOff x="395280" y="1484280"/>
            <a:chExt cx="2664000" cy="4753080"/>
          </a:xfrm>
        </p:grpSpPr>
        <p:grpSp>
          <p:nvGrpSpPr>
            <p:cNvPr id="94" name="44 Grupo"/>
            <p:cNvGrpSpPr/>
            <p:nvPr/>
          </p:nvGrpSpPr>
          <p:grpSpPr>
            <a:xfrm>
              <a:off x="395280" y="1484280"/>
              <a:ext cx="2664000" cy="4753080"/>
              <a:chOff x="395280" y="1484280"/>
              <a:chExt cx="2664000" cy="4753080"/>
            </a:xfrm>
          </p:grpSpPr>
          <p:sp>
            <p:nvSpPr>
              <p:cNvPr id="95" name="24 Conector recto"/>
              <p:cNvSpPr/>
              <p:nvPr/>
            </p:nvSpPr>
            <p:spPr>
              <a:xfrm>
                <a:off x="2699280" y="4149000"/>
                <a:ext cx="0" cy="208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30 Conector recto"/>
              <p:cNvSpPr/>
              <p:nvPr/>
            </p:nvSpPr>
            <p:spPr>
              <a:xfrm>
                <a:off x="2699280" y="6237360"/>
                <a:ext cx="36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37 Conector recto"/>
              <p:cNvSpPr/>
              <p:nvPr/>
            </p:nvSpPr>
            <p:spPr>
              <a:xfrm>
                <a:off x="2699280" y="4149000"/>
                <a:ext cx="36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38 Elipse"/>
              <p:cNvSpPr/>
              <p:nvPr/>
            </p:nvSpPr>
            <p:spPr>
              <a:xfrm>
                <a:off x="395280" y="1484280"/>
                <a:ext cx="1368000" cy="12963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40 Conector recto"/>
              <p:cNvSpPr/>
              <p:nvPr/>
            </p:nvSpPr>
            <p:spPr>
              <a:xfrm>
                <a:off x="1763280" y="2132280"/>
                <a:ext cx="504000" cy="288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42 Conector recto"/>
            <p:cNvSpPr/>
            <p:nvPr/>
          </p:nvSpPr>
          <p:spPr>
            <a:xfrm>
              <a:off x="2267280" y="501300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capas de la geo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1800360" cy="5580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4572000" y="1413000"/>
            <a:ext cx="408456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capa intermedia, y la más grue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á formada por rocas más densas que las de la corteza y sólidas en su mayorí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ocas de la parte superior son rígidas, pero en la mayor parte del manto son relativamente blandas (plásticas), y en algunas zonas se encuentran fundi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008000" y="62064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l ma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9"/>
          <p:cNvSpPr/>
          <p:nvPr/>
        </p:nvSpPr>
        <p:spPr>
          <a:xfrm>
            <a:off x="2700360" y="1627200"/>
            <a:ext cx="900000" cy="1440"/>
          </a:xfrm>
          <a:custGeom>
            <a:avLst/>
            <a:gdLst>
              <a:gd name="textAreaLeft" fmla="*/ 0 w 900000"/>
              <a:gd name="textAreaRight" fmla="*/ 900360 w 9000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501" h="1">
                <a:moveTo>
                  <a:pt x="0" y="0"/>
                </a:moveTo>
                <a:lnTo>
                  <a:pt x="25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0"/>
          <p:cNvSpPr/>
          <p:nvPr/>
        </p:nvSpPr>
        <p:spPr>
          <a:xfrm>
            <a:off x="3600360" y="1627200"/>
            <a:ext cx="1800" cy="2521080"/>
          </a:xfrm>
          <a:custGeom>
            <a:avLst/>
            <a:gdLst>
              <a:gd name="textAreaLeft" fmla="*/ 0 w 1800"/>
              <a:gd name="textAreaRight" fmla="*/ 2160 w 180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1" h="7001">
                <a:moveTo>
                  <a:pt x="0" y="700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340000" y="4146480"/>
            <a:ext cx="1260360" cy="180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501" h="1">
                <a:moveTo>
                  <a:pt x="0" y="0"/>
                </a:moveTo>
                <a:lnTo>
                  <a:pt x="35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600360" y="2647800"/>
            <a:ext cx="1260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324000" y="1617840"/>
            <a:ext cx="720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nto ríg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24000" y="2752560"/>
            <a:ext cx="82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nto plást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9"/>
          <p:cNvSpPr/>
          <p:nvPr/>
        </p:nvSpPr>
        <p:spPr>
          <a:xfrm>
            <a:off x="971640" y="1773360"/>
            <a:ext cx="504720" cy="71280"/>
          </a:xfrm>
          <a:custGeom>
            <a:avLst/>
            <a:gdLst>
              <a:gd name="textAreaLeft" fmla="*/ 0 w 504720"/>
              <a:gd name="textAreaRight" fmla="*/ 505080 w 5047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501" h="1">
                <a:moveTo>
                  <a:pt x="0" y="0"/>
                </a:moveTo>
                <a:lnTo>
                  <a:pt x="25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9"/>
          <p:cNvSpPr/>
          <p:nvPr/>
        </p:nvSpPr>
        <p:spPr>
          <a:xfrm>
            <a:off x="1042920" y="2968560"/>
            <a:ext cx="684360" cy="46080"/>
          </a:xfrm>
          <a:custGeom>
            <a:avLst/>
            <a:gdLst>
              <a:gd name="textAreaLeft" fmla="*/ 0 w 684360"/>
              <a:gd name="textAreaRight" fmla="*/ 684720 w 68436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501" h="1">
                <a:moveTo>
                  <a:pt x="0" y="0"/>
                </a:moveTo>
                <a:lnTo>
                  <a:pt x="25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capas de la geo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900000" y="873000"/>
            <a:ext cx="1800360" cy="5580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4211640" y="1413000"/>
            <a:ext cx="46450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capa más interna de la Tierra, así como la más den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á formada por met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istinguen dos par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Núcleo externo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es una capa líquida de metal fund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Núcleo interno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se encuentra en estado sól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971640" y="54936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l núcl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9"/>
          <p:cNvSpPr/>
          <p:nvPr/>
        </p:nvSpPr>
        <p:spPr>
          <a:xfrm>
            <a:off x="2340000" y="4111560"/>
            <a:ext cx="1081080" cy="180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001" h="1">
                <a:moveTo>
                  <a:pt x="0" y="0"/>
                </a:moveTo>
                <a:lnTo>
                  <a:pt x="30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10"/>
          <p:cNvSpPr/>
          <p:nvPr/>
        </p:nvSpPr>
        <p:spPr>
          <a:xfrm>
            <a:off x="2160720" y="6272280"/>
            <a:ext cx="1260360" cy="144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01" h="1">
                <a:moveTo>
                  <a:pt x="0" y="0"/>
                </a:moveTo>
                <a:lnTo>
                  <a:pt x="35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11"/>
          <p:cNvSpPr/>
          <p:nvPr/>
        </p:nvSpPr>
        <p:spPr>
          <a:xfrm>
            <a:off x="3419640" y="4111560"/>
            <a:ext cx="1440" cy="2160720"/>
          </a:xfrm>
          <a:custGeom>
            <a:avLst/>
            <a:gdLst>
              <a:gd name="textAreaLeft" fmla="*/ 0 w 1440"/>
              <a:gd name="textAreaRight" fmla="*/ 1800 w 144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1" h="6001">
                <a:moveTo>
                  <a:pt x="0" y="600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3419640" y="5011560"/>
            <a:ext cx="900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úcle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24000" y="408636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úcleo exter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95280" y="5165640"/>
            <a:ext cx="811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úcleo inter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7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Freeform 9"/>
          <p:cNvSpPr/>
          <p:nvPr/>
        </p:nvSpPr>
        <p:spPr>
          <a:xfrm>
            <a:off x="1187280" y="4302000"/>
            <a:ext cx="578160" cy="44640"/>
          </a:xfrm>
          <a:custGeom>
            <a:avLst/>
            <a:gdLst>
              <a:gd name="textAreaLeft" fmla="*/ 0 w 578160"/>
              <a:gd name="textAreaRight" fmla="*/ 578520 w 57816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001" h="1">
                <a:moveTo>
                  <a:pt x="0" y="0"/>
                </a:moveTo>
                <a:lnTo>
                  <a:pt x="30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9"/>
          <p:cNvSpPr/>
          <p:nvPr/>
        </p:nvSpPr>
        <p:spPr>
          <a:xfrm>
            <a:off x="1187280" y="5381640"/>
            <a:ext cx="578160" cy="46080"/>
          </a:xfrm>
          <a:custGeom>
            <a:avLst/>
            <a:gdLst>
              <a:gd name="textAreaLeft" fmla="*/ 0 w 578160"/>
              <a:gd name="textAreaRight" fmla="*/ 578520 w 57816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3001" h="1">
                <a:moveTo>
                  <a:pt x="0" y="0"/>
                </a:moveTo>
                <a:lnTo>
                  <a:pt x="30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1T09:10:30Z</dcterms:modified>
  <cp:revision>53</cp:revision>
  <dc:subject/>
  <dc:title>Diapositiva 1</dc:title>
</cp:coreProperties>
</file>